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6189"/>
                </a:solidFill>
                <a:latin typeface="Trebuchet MS"/>
              </a:rPr>
              <a:t>Click to move the slide</a:t>
            </a:r>
            <a:endParaRPr b="1" lang="en-US" sz="4000" spc="-1" strike="noStrike">
              <a:solidFill>
                <a:srgbClr val="226189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3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4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0522-8361-403D-9A37-183B018382E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ction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ction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 wide range of skills and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ll excellent communica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Base 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urrumbeena PS 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arrisfield PS 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ornington SC Penins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6480" y="464472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e Ultranet brings together a range of key functions that support teaching, learning and adminis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ll information related to students is centralised and will remain with the student as the student moves through the education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Ultranet functionality will benefit a range of users: schools, parents, students, DEECD and the region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Need more info from Ultranet coaches handbook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Need these from the Ultranet coaches handbook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宋体"/>
              </a:rPr>
              <a:t>Coaches are not operating in isolation.  They are supported b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宋体"/>
              </a:rPr>
              <a:t>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宋体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宋体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宋体"/>
              </a:rPr>
              <a:t>University exp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宋体"/>
              </a:rPr>
              <a:t>Evalu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宋体"/>
              </a:rPr>
              <a:t>Colleag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宋体"/>
              </a:rPr>
              <a:t>Table discus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宋体"/>
              </a:rPr>
              <a:t>What other support will you need? What support have you already ident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ave planned this break to follow the positive discussion about celebrating excellent teac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083480"/>
            <a:ext cx="82915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08348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4000" y="408348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8960" y="213336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2640" y="213336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08348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8960" y="408348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2640" y="408348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C853-51CE-4439-8BBB-D9E399ECC2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61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51B22-2506-44A9-9F9D-33663CC29F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AFBC-1615-403D-9BA4-7B0E0B0177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7F56F-AC69-4A22-A525-72419C685B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D73FF-DF8F-4C30-8F0B-77A0302132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95280" y="609120"/>
            <a:ext cx="82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226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EB036-B39E-4074-83BB-C76034FF63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408348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129E-7F85-46C7-AA1B-7A0CFD73CA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618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44000" y="408348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759A8-A563-42E6-AC30-AF71EAEE86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95280" y="4083480"/>
            <a:ext cx="82915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47B12-170D-450B-9DAA-BCF81BECFD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5280" y="4083480"/>
            <a:ext cx="82915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D0769-5277-447F-A2D0-3E276C6EFF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95280" y="408348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44000" y="408348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4E978-2C15-4F6F-8E92-44B8793F5E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98960" y="213336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02640" y="213336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95280" y="408348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98960" y="408348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02640" y="408348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DD7EA-9345-4978-80E3-80C1DFF5B9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609120"/>
            <a:ext cx="82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22618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08348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4000" y="408348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083480"/>
            <a:ext cx="82915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75d9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75d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2e75d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75d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75d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2e75d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75d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2e75d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75d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75d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75d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226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172200" y="6234120"/>
            <a:ext cx="2514600" cy="4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0" b="22510"/>
          <a:stretch/>
        </p:blipFill>
        <p:spPr>
          <a:xfrm>
            <a:off x="2971800" y="380880"/>
            <a:ext cx="1695600" cy="1755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rcRect l="0" t="10233" r="0" b="10233"/>
          <a:stretch/>
        </p:blipFill>
        <p:spPr>
          <a:xfrm>
            <a:off x="7524720" y="174600"/>
            <a:ext cx="1619280" cy="1949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rcRect l="0" t="0" r="0" b="14997"/>
          <a:stretch/>
        </p:blipFill>
        <p:spPr>
          <a:xfrm>
            <a:off x="4572000" y="457200"/>
            <a:ext cx="2971800" cy="1689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rcRect l="0" t="0" r="4999" b="31681"/>
          <a:stretch/>
        </p:blipFill>
        <p:spPr>
          <a:xfrm>
            <a:off x="1371600" y="304920"/>
            <a:ext cx="1689120" cy="182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rcRect l="7011" t="0" r="21034" b="0"/>
          <a:stretch/>
        </p:blipFill>
        <p:spPr>
          <a:xfrm>
            <a:off x="-4680" y="533520"/>
            <a:ext cx="1536480" cy="1604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2743200"/>
            <a:ext cx="7162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6189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226189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63868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0"/>
            <a:ext cx="0" cy="2133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0"/>
            <a:ext cx="0" cy="2133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228600"/>
            <a:ext cx="0" cy="19051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43800" y="0"/>
            <a:ext cx="0" cy="2133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0"/>
            <a:ext cx="0" cy="2133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638680"/>
            <a:ext cx="9144000" cy="457200"/>
          </a:xfrm>
          <a:prstGeom prst="rect">
            <a:avLst/>
          </a:prstGeom>
          <a:solidFill>
            <a:srgbClr val="226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6172200" y="6234120"/>
            <a:ext cx="2514600" cy="471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618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2618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75d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e75d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75d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e75d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75d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e75d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e75d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75d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e75d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75d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e75d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75d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12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707920"/>
            <a:ext cx="8785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75d9"/>
                </a:solidFill>
                <a:latin typeface="Trebuchet MS"/>
                <a:ea typeface="宋体"/>
              </a:rPr>
              <a:t>When I grow up…….</a:t>
            </a:r>
            <a:endParaRPr b="1" lang="en-US" sz="2400" spc="-1" strike="noStrike">
              <a:solidFill>
                <a:srgbClr val="226189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609480"/>
            <a:ext cx="874872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 u="sng">
                <a:solidFill>
                  <a:srgbClr val="226189"/>
                </a:solidFill>
                <a:uFillTx/>
                <a:latin typeface="Trebuchet MS"/>
              </a:rPr>
              <a:t>Ultranet School Visit Pro-forma</a:t>
            </a:r>
            <a:br>
              <a:rPr sz="4000"/>
            </a:br>
            <a:r>
              <a:rPr b="1" lang="en-AU" sz="3200" spc="-1" strike="noStrike">
                <a:solidFill>
                  <a:srgbClr val="226189"/>
                </a:solidFill>
                <a:latin typeface="Trebuchet MS"/>
              </a:rPr>
              <a:t>The coaches will be contacting schools in their sub-region</a:t>
            </a:r>
            <a:br>
              <a:rPr sz="3200"/>
            </a:br>
            <a:r>
              <a:rPr b="1" lang="en-AU" sz="3200" spc="-1" strike="noStrike">
                <a:solidFill>
                  <a:srgbClr val="226189"/>
                </a:solidFill>
                <a:latin typeface="Trebuchet MS"/>
              </a:rPr>
              <a:t>to deliver the SMR Ultranet Information Package, do a walkthrough, meet the Principal, ICT Coordinator, ICT technician and Professional Learning Coordinator and to encourage the ePotential ICT Capabilities Survey.</a:t>
            </a:r>
            <a:endParaRPr b="1" lang="en-US" sz="3200" spc="-1" strike="noStrike">
              <a:solidFill>
                <a:srgbClr val="2e75d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300720" y="2276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87708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076720" y="242100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7740720" y="242100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2771640" y="2421000"/>
            <a:ext cx="1100160" cy="1100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5651640" y="249228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0" y="242100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3924360" y="242100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3716280"/>
            <a:ext cx="122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2e75d9"/>
                </a:solidFill>
                <a:latin typeface="Verdana"/>
              </a:rPr>
              <a:t>Departmental &amp; Regional Staff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03280" y="3645000"/>
            <a:ext cx="122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2e75d9"/>
                </a:solidFill>
                <a:latin typeface="Verdana"/>
              </a:rPr>
              <a:t>Principals &amp; Business Manage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9"/>
          <a:stretch/>
        </p:blipFill>
        <p:spPr>
          <a:xfrm>
            <a:off x="1762200" y="263520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0"/>
          <a:stretch/>
        </p:blipFill>
        <p:spPr>
          <a:xfrm>
            <a:off x="1258920" y="2349360"/>
            <a:ext cx="1173240" cy="11732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292720" y="371628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2e75d9"/>
                </a:solidFill>
                <a:latin typeface="Verdana"/>
              </a:rPr>
              <a:t>Teache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3645000"/>
            <a:ext cx="125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2e75d9"/>
                </a:solidFill>
                <a:latin typeface="Verdana"/>
              </a:rPr>
              <a:t>Administrato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88000" y="3500280"/>
            <a:ext cx="122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2e75d9"/>
                </a:solidFill>
                <a:latin typeface="Verdana"/>
              </a:rPr>
              <a:t>Studen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956720" y="3573360"/>
            <a:ext cx="93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2e75d9"/>
                </a:solidFill>
                <a:latin typeface="Verdana"/>
              </a:rPr>
              <a:t>Parents/  Guardian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3645000"/>
            <a:ext cx="151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2e75d9"/>
                </a:solidFill>
                <a:latin typeface="Verdana"/>
              </a:rPr>
              <a:t>Training &amp; Support Servic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2411280" y="-171360"/>
            <a:ext cx="433080" cy="4608360"/>
          </a:xfrm>
          <a:custGeom>
            <a:avLst/>
            <a:gdLst>
              <a:gd name="textAreaLeft" fmla="*/ 276840 w 433080"/>
              <a:gd name="textAreaRight" fmla="*/ 433440 w 433080"/>
              <a:gd name="textAreaTop" fmla="*/ 119880 h 4608360"/>
              <a:gd name="textAreaBottom" fmla="*/ 4488480 h 46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5472000" y="1593720"/>
            <a:ext cx="433440" cy="1224000"/>
          </a:xfrm>
          <a:custGeom>
            <a:avLst/>
            <a:gdLst>
              <a:gd name="textAreaLeft" fmla="*/ 276840 w 433440"/>
              <a:gd name="textAreaRight" fmla="*/ 433800 w 4334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6838920" y="1449000"/>
            <a:ext cx="433440" cy="1224000"/>
          </a:xfrm>
          <a:custGeom>
            <a:avLst/>
            <a:gdLst>
              <a:gd name="textAreaLeft" fmla="*/ 276840 w 433440"/>
              <a:gd name="textAreaRight" fmla="*/ 433800 w 4334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5400000">
            <a:off x="8171640" y="1556280"/>
            <a:ext cx="433080" cy="1152720"/>
          </a:xfrm>
          <a:custGeom>
            <a:avLst/>
            <a:gdLst>
              <a:gd name="textAreaLeft" fmla="*/ 276840 w 433080"/>
              <a:gd name="textAreaRight" fmla="*/ 433440 w 4330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79640" y="1557360"/>
            <a:ext cx="11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~ </a:t>
            </a:r>
            <a:r>
              <a:rPr b="1" lang="en-AU" sz="1600" spc="-1" strike="noStrike">
                <a:solidFill>
                  <a:srgbClr val="2e75d9"/>
                </a:solidFill>
                <a:latin typeface="Arial"/>
              </a:rPr>
              <a:t>3,000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76720" y="155736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2e75d9"/>
                </a:solidFill>
                <a:latin typeface="Arial"/>
              </a:rPr>
              <a:t>~ 44,000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72360" y="1484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2e75d9"/>
                </a:solidFill>
                <a:latin typeface="Arial"/>
              </a:rPr>
              <a:t>~ 550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51720" y="1484280"/>
            <a:ext cx="159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~ </a:t>
            </a:r>
            <a:r>
              <a:rPr b="1" lang="en-AU" sz="1600" spc="-1" strike="noStrike">
                <a:solidFill>
                  <a:srgbClr val="2e75d9"/>
                </a:solidFill>
                <a:latin typeface="Arial"/>
              </a:rPr>
              <a:t>1,000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48428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2e75d9"/>
                </a:solidFill>
                <a:latin typeface="Arial"/>
              </a:rPr>
              <a:t>Baseline User Volum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4653000"/>
            <a:ext cx="820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1"/>
          <a:stretch/>
        </p:blipFill>
        <p:spPr>
          <a:xfrm>
            <a:off x="7020000" y="436572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643280" y="4221000"/>
            <a:ext cx="139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2e75d9"/>
                </a:solidFill>
                <a:latin typeface="Verdana"/>
              </a:rPr>
              <a:t>Vic Govt Schoo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88000" y="4869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35640" y="4869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Verdana"/>
              </a:rPr>
              <a:t>1,6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2"/>
          <a:stretch/>
        </p:blipFill>
        <p:spPr>
          <a:xfrm>
            <a:off x="2195640" y="436572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3"/>
          <a:stretch/>
        </p:blipFill>
        <p:spPr>
          <a:xfrm>
            <a:off x="2700360" y="4869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4"/>
          <a:stretch/>
        </p:blipFill>
        <p:spPr>
          <a:xfrm>
            <a:off x="3059280" y="537372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79280" y="465300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2e75d9"/>
                </a:solidFill>
                <a:latin typeface="Arial"/>
              </a:rPr>
              <a:t>1,213  Prim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508464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2e75d9"/>
                </a:solidFill>
                <a:latin typeface="Arial"/>
              </a:rPr>
              <a:t>311 Second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5516640"/>
            <a:ext cx="23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2e75d9"/>
                </a:solidFill>
                <a:latin typeface="Arial"/>
              </a:rPr>
              <a:t>78  Special Develop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hape 113665"/>
          <p:cNvSpPr/>
          <p:nvPr/>
        </p:nvSpPr>
        <p:spPr>
          <a:xfrm>
            <a:off x="1008000" y="297000"/>
            <a:ext cx="7705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rebuchet MS"/>
              </a:rPr>
              <a:t>User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47628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75d9"/>
                </a:solidFill>
                <a:latin typeface="Verdana"/>
              </a:rPr>
              <a:t>Who will be using the Ultranet with us?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3924360" y="4365720"/>
            <a:ext cx="433440" cy="1582560"/>
          </a:xfrm>
          <a:custGeom>
            <a:avLst/>
            <a:gdLst>
              <a:gd name="textAreaLeft" fmla="*/ 276840 w 433440"/>
              <a:gd name="textAreaRight" fmla="*/ 433800 w 433440"/>
              <a:gd name="textAreaTop" fmla="*/ 41040 h 1582560"/>
              <a:gd name="textAreaBottom" fmla="*/ 1541520 h 158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707920"/>
            <a:ext cx="8785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6189"/>
                </a:solidFill>
                <a:latin typeface="Trebuchet MS"/>
                <a:ea typeface="宋体"/>
              </a:rPr>
              <a:t>SMR Ultranet Implementation</a:t>
            </a:r>
            <a:r>
              <a:rPr b="1" lang="en-US" sz="3600" spc="-1" strike="noStrike">
                <a:solidFill>
                  <a:srgbClr val="226189"/>
                </a:solidFill>
                <a:latin typeface="Trebuchet MS"/>
                <a:ea typeface="宋体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2e75d9"/>
                </a:solidFill>
                <a:latin typeface="Trebuchet MS"/>
                <a:ea typeface="宋体"/>
              </a:rPr>
              <a:t>Angeliki Karvouni</a:t>
            </a:r>
            <a:br>
              <a:rPr sz="2400"/>
            </a:br>
            <a:r>
              <a:rPr b="1" lang="en-US" sz="2400" spc="-1" strike="noStrike">
                <a:solidFill>
                  <a:srgbClr val="2e75d9"/>
                </a:solidFill>
                <a:latin typeface="Trebuchet MS"/>
                <a:ea typeface="宋体"/>
              </a:rPr>
              <a:t>Southern Metropolitan Region</a:t>
            </a:r>
            <a:br>
              <a:rPr sz="2400"/>
            </a:br>
            <a:r>
              <a:rPr b="1" lang="en-US" sz="2400" spc="-1" strike="noStrike">
                <a:solidFill>
                  <a:srgbClr val="2e75d9"/>
                </a:solidFill>
                <a:latin typeface="Trebuchet MS"/>
                <a:ea typeface="宋体"/>
              </a:rPr>
              <a:t>Ultranet Team Leader</a:t>
            </a:r>
            <a:endParaRPr b="1" lang="en-US" sz="2400" spc="-1" strike="noStrike">
              <a:solidFill>
                <a:srgbClr val="22618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8785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6189"/>
                </a:solidFill>
                <a:latin typeface="Trebuchet MS"/>
              </a:rPr>
              <a:t>7 SMR Ultranet Coaches</a:t>
            </a:r>
            <a:br>
              <a:rPr sz="2400"/>
            </a:br>
            <a:r>
              <a:rPr b="1" lang="en-US" sz="1800" spc="-1" strike="noStrike" u="sng">
                <a:solidFill>
                  <a:srgbClr val="226189"/>
                </a:solidFill>
                <a:uFillTx/>
                <a:latin typeface="Trebuchet MS"/>
              </a:rPr>
              <a:t>Inner</a:t>
            </a:r>
            <a:br>
              <a:rPr sz="1800"/>
            </a:br>
            <a:r>
              <a:rPr b="1" lang="en-US" sz="1800" spc="-1" strike="noStrike">
                <a:solidFill>
                  <a:srgbClr val="226189"/>
                </a:solidFill>
                <a:latin typeface="Trebuchet MS"/>
              </a:rPr>
              <a:t>Angeliki Karvouni</a:t>
            </a:r>
            <a:br>
              <a:rPr sz="1800"/>
            </a:br>
            <a:r>
              <a:rPr b="1" lang="en-US" sz="1800" spc="-1" strike="noStrike">
                <a:solidFill>
                  <a:srgbClr val="226189"/>
                </a:solidFill>
                <a:latin typeface="Trebuchet MS"/>
              </a:rPr>
              <a:t>John McLoughlin</a:t>
            </a:r>
            <a:br>
              <a:rPr sz="1800"/>
            </a:br>
            <a:r>
              <a:rPr b="1" lang="en-US" sz="1800" spc="-1" strike="noStrike" u="sng">
                <a:solidFill>
                  <a:srgbClr val="226189"/>
                </a:solidFill>
                <a:uFillTx/>
                <a:latin typeface="Trebuchet MS"/>
              </a:rPr>
              <a:t>Outer</a:t>
            </a:r>
            <a:br>
              <a:rPr sz="1800"/>
            </a:br>
            <a:r>
              <a:rPr b="1" lang="en-US" sz="1800" spc="-1" strike="noStrike">
                <a:solidFill>
                  <a:srgbClr val="226189"/>
                </a:solidFill>
                <a:latin typeface="Trebuchet MS"/>
              </a:rPr>
              <a:t>Jonathan Hall</a:t>
            </a:r>
            <a:br>
              <a:rPr sz="1800"/>
            </a:br>
            <a:r>
              <a:rPr b="1" lang="en-US" sz="1800" spc="-1" strike="noStrike">
                <a:solidFill>
                  <a:srgbClr val="226189"/>
                </a:solidFill>
                <a:latin typeface="Trebuchet MS"/>
              </a:rPr>
              <a:t>Julian Growcott</a:t>
            </a:r>
            <a:br>
              <a:rPr sz="1800"/>
            </a:br>
            <a:r>
              <a:rPr b="1" lang="en-US" sz="1800" spc="-1" strike="noStrike">
                <a:solidFill>
                  <a:srgbClr val="226189"/>
                </a:solidFill>
                <a:latin typeface="Trebuchet MS"/>
              </a:rPr>
              <a:t>Heather Carver</a:t>
            </a:r>
            <a:br>
              <a:rPr sz="1800"/>
            </a:br>
            <a:r>
              <a:rPr b="1" lang="en-US" sz="1800" spc="-1" strike="noStrike" u="sng">
                <a:solidFill>
                  <a:srgbClr val="226189"/>
                </a:solidFill>
                <a:uFillTx/>
                <a:latin typeface="Trebuchet MS"/>
              </a:rPr>
              <a:t>Peninsula</a:t>
            </a:r>
            <a:br>
              <a:rPr sz="1800"/>
            </a:br>
            <a:r>
              <a:rPr b="1" lang="en-US" sz="1800" spc="-1" strike="noStrike">
                <a:solidFill>
                  <a:srgbClr val="226189"/>
                </a:solidFill>
                <a:latin typeface="Trebuchet MS"/>
              </a:rPr>
              <a:t>Susie Rogers</a:t>
            </a:r>
            <a:br>
              <a:rPr sz="1800"/>
            </a:br>
            <a:r>
              <a:rPr b="1" lang="en-US" sz="1800" spc="-1" strike="noStrike">
                <a:solidFill>
                  <a:srgbClr val="226189"/>
                </a:solidFill>
                <a:latin typeface="Trebuchet MS"/>
              </a:rPr>
              <a:t>Emma Schafer</a:t>
            </a:r>
            <a:br>
              <a:rPr sz="1800"/>
            </a:br>
            <a:br>
              <a:rPr sz="3600"/>
            </a:br>
            <a:endParaRPr b="1" lang="en-US" sz="1800" spc="-1" strike="noStrike">
              <a:solidFill>
                <a:srgbClr val="22618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6189"/>
                </a:solidFill>
                <a:latin typeface="Trebuchet MS"/>
              </a:rPr>
              <a:t>Ultranet</a:t>
            </a: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e75d9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e75d9"/>
                </a:solidFill>
                <a:latin typeface="Arial"/>
              </a:rPr>
              <a:t>The Ultranet is an intuitive student-centred electronic learning environment that supports high quality learning and teaching, connects students, teachers and parents and enables efficient knowledge transfer.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9640" y="92160"/>
            <a:ext cx="9144000" cy="304560"/>
          </a:xfrm>
          <a:prstGeom prst="rect">
            <a:avLst/>
          </a:prstGeom>
          <a:solidFill>
            <a:srgbClr val="226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08360" y="1359000"/>
            <a:ext cx="4392720" cy="4176720"/>
          </a:xfrm>
          <a:prstGeom prst="ellipse">
            <a:avLst/>
          </a:prstGeom>
          <a:solidFill>
            <a:srgbClr val="226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79800" y="2595600"/>
            <a:ext cx="2009880" cy="1808280"/>
          </a:xfrm>
          <a:prstGeom prst="ellips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rebuchet MS"/>
              </a:rPr>
              <a:t>Ultra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rebuchet MS"/>
              </a:rPr>
              <a:t>A tool for sch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AU" sz="1400" spc="-1" strike="noStrike">
                <a:solidFill>
                  <a:srgbClr val="ffffff"/>
                </a:solidFill>
                <a:latin typeface="Trebuchet MS"/>
              </a:rPr>
              <a:t>improv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260880" y="2084400"/>
            <a:ext cx="979200" cy="983520"/>
            <a:chOff x="3260880" y="2084400"/>
            <a:chExt cx="979200" cy="98352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3420360" y="2084400"/>
              <a:ext cx="666000" cy="6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260880" y="2791440"/>
              <a:ext cx="97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ff"/>
                  </a:solidFill>
                  <a:latin typeface="Trebuchet MS"/>
                </a:rPr>
                <a:t>Report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737320" y="2219400"/>
            <a:ext cx="1276200" cy="903600"/>
            <a:chOff x="5737320" y="2219400"/>
            <a:chExt cx="1276200" cy="903600"/>
          </a:xfrm>
        </p:grpSpPr>
        <p:sp>
          <p:nvSpPr>
            <p:cNvPr id="116" name=""/>
            <p:cNvSpPr/>
            <p:nvPr/>
          </p:nvSpPr>
          <p:spPr>
            <a:xfrm>
              <a:off x="5737320" y="2846520"/>
              <a:ext cx="127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ff"/>
                  </a:solidFill>
                  <a:latin typeface="Trebuchet MS"/>
                </a:rPr>
                <a:t>Collabo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5989320" y="2219400"/>
              <a:ext cx="66492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3979800" y="4383000"/>
            <a:ext cx="979560" cy="937080"/>
            <a:chOff x="3979800" y="4383000"/>
            <a:chExt cx="979560" cy="937080"/>
          </a:xfrm>
        </p:grpSpPr>
        <p:sp>
          <p:nvSpPr>
            <p:cNvPr id="119" name=""/>
            <p:cNvSpPr/>
            <p:nvPr/>
          </p:nvSpPr>
          <p:spPr>
            <a:xfrm>
              <a:off x="3979800" y="5043600"/>
              <a:ext cx="97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ff"/>
                  </a:solidFill>
                  <a:latin typeface="Trebuchet MS"/>
                </a:rPr>
                <a:t>School inf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4079160" y="4383000"/>
              <a:ext cx="666000" cy="68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5902200" y="3311640"/>
            <a:ext cx="979560" cy="943200"/>
            <a:chOff x="5902200" y="3311640"/>
            <a:chExt cx="979560" cy="943200"/>
          </a:xfrm>
        </p:grpSpPr>
        <p:sp>
          <p:nvSpPr>
            <p:cNvPr id="122" name=""/>
            <p:cNvSpPr/>
            <p:nvPr/>
          </p:nvSpPr>
          <p:spPr>
            <a:xfrm>
              <a:off x="5902200" y="3978360"/>
              <a:ext cx="97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ff"/>
                  </a:solidFill>
                  <a:latin typeface="Trebuchet MS"/>
                </a:rPr>
                <a:t>Staff inf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6030000" y="3311640"/>
              <a:ext cx="66564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"/>
          <p:cNvGrpSpPr/>
          <p:nvPr/>
        </p:nvGrpSpPr>
        <p:grpSpPr>
          <a:xfrm>
            <a:off x="5248440" y="4238640"/>
            <a:ext cx="979200" cy="1134360"/>
            <a:chOff x="5248440" y="4238640"/>
            <a:chExt cx="979200" cy="1134360"/>
          </a:xfrm>
        </p:grpSpPr>
        <p:sp>
          <p:nvSpPr>
            <p:cNvPr id="125" name=""/>
            <p:cNvSpPr/>
            <p:nvPr/>
          </p:nvSpPr>
          <p:spPr>
            <a:xfrm>
              <a:off x="5248440" y="4914000"/>
              <a:ext cx="979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ff"/>
                  </a:solidFill>
                  <a:latin typeface="Trebuchet MS"/>
                </a:rPr>
                <a:t>Student inf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5"/>
            <a:stretch/>
          </p:blipFill>
          <p:spPr>
            <a:xfrm>
              <a:off x="5393880" y="4238640"/>
              <a:ext cx="66456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"/>
          <p:cNvGrpSpPr/>
          <p:nvPr/>
        </p:nvGrpSpPr>
        <p:grpSpPr>
          <a:xfrm>
            <a:off x="4238640" y="1428840"/>
            <a:ext cx="1650960" cy="1350360"/>
            <a:chOff x="4238640" y="1428840"/>
            <a:chExt cx="1650960" cy="1350360"/>
          </a:xfrm>
        </p:grpSpPr>
        <p:sp>
          <p:nvSpPr>
            <p:cNvPr id="128" name=""/>
            <p:cNvSpPr/>
            <p:nvPr/>
          </p:nvSpPr>
          <p:spPr>
            <a:xfrm>
              <a:off x="4238640" y="2137680"/>
              <a:ext cx="1650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ff"/>
                  </a:solidFill>
                  <a:latin typeface="Trebuchet MS"/>
                </a:rPr>
                <a:t>Learning &amp; Teaching Manage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6"/>
            <a:stretch/>
          </p:blipFill>
          <p:spPr>
            <a:xfrm>
              <a:off x="4622400" y="1428840"/>
              <a:ext cx="66564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"/>
          <p:cNvGrpSpPr/>
          <p:nvPr/>
        </p:nvGrpSpPr>
        <p:grpSpPr>
          <a:xfrm>
            <a:off x="2951280" y="3446640"/>
            <a:ext cx="1282680" cy="930240"/>
            <a:chOff x="2951280" y="3446640"/>
            <a:chExt cx="1282680" cy="930240"/>
          </a:xfrm>
        </p:grpSpPr>
        <p:sp>
          <p:nvSpPr>
            <p:cNvPr id="131" name=""/>
            <p:cNvSpPr/>
            <p:nvPr/>
          </p:nvSpPr>
          <p:spPr>
            <a:xfrm>
              <a:off x="2951280" y="4100400"/>
              <a:ext cx="128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ff"/>
                  </a:solidFill>
                  <a:latin typeface="Trebuchet MS"/>
                </a:rPr>
                <a:t>Administ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7"/>
            <a:stretch/>
          </p:blipFill>
          <p:spPr>
            <a:xfrm>
              <a:off x="3158280" y="3446640"/>
              <a:ext cx="739080" cy="68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"/>
          <p:cNvSpPr/>
          <p:nvPr/>
        </p:nvSpPr>
        <p:spPr>
          <a:xfrm>
            <a:off x="2493720" y="708120"/>
            <a:ext cx="516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Whole school, program and teacher curriculum planning and deli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Student assessment, submission and feedba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Digital learning cont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67640" y="1938240"/>
            <a:ext cx="2447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Shared curriculum/lesson pl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Collaboration t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Discussion foru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Messag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Blog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12000" y="3691080"/>
            <a:ext cx="230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ＭＳ Ｐゴシック"/>
              </a:rPr>
              <a:t>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Staff prof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Staff time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43640" y="5000760"/>
            <a:ext cx="295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        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Student prof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    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Student resu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Course enrol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43040" y="4915080"/>
            <a:ext cx="3168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        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Profil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      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Time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            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Calenda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                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Committ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               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Clubs &amp; organis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11280" y="3373560"/>
            <a:ext cx="194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Management of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Attend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Time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Calend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   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Record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55640" y="1862280"/>
            <a:ext cx="19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Student report c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Standard repor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Ad-hoc repor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03640" y="923760"/>
            <a:ext cx="5329080" cy="4967280"/>
          </a:xfrm>
          <a:prstGeom prst="ellipse">
            <a:avLst/>
          </a:prstGeom>
          <a:noFill/>
          <a:ln w="28440">
            <a:solidFill>
              <a:srgbClr val="2261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73760" y="1255680"/>
            <a:ext cx="7801920" cy="4809600"/>
            <a:chOff x="1373760" y="1255680"/>
            <a:chExt cx="7801920" cy="4809600"/>
          </a:xfrm>
        </p:grpSpPr>
        <p:sp>
          <p:nvSpPr>
            <p:cNvPr id="142" name=""/>
            <p:cNvSpPr/>
            <p:nvPr/>
          </p:nvSpPr>
          <p:spPr>
            <a:xfrm>
              <a:off x="2383200" y="1255680"/>
              <a:ext cx="12445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261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226189"/>
                  </a:solidFill>
                  <a:latin typeface="Arial"/>
                </a:rPr>
                <a:t>DEEC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87920" y="1284120"/>
              <a:ext cx="11790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261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226189"/>
                  </a:solidFill>
                  <a:latin typeface="Arial"/>
                </a:rPr>
                <a:t>region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2640" y="2940120"/>
              <a:ext cx="1465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261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226189"/>
                  </a:solidFill>
                  <a:latin typeface="Arial"/>
                </a:rPr>
                <a:t>principa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73760" y="2940120"/>
              <a:ext cx="134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261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226189"/>
                  </a:solidFill>
                  <a:latin typeface="Arial"/>
                </a:rPr>
                <a:t>teacher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63920" y="4524480"/>
              <a:ext cx="21117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261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226189"/>
                  </a:solidFill>
                  <a:latin typeface="Arial"/>
                </a:rPr>
                <a:t>admin/suppor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98920" y="5605560"/>
              <a:ext cx="13327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261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226189"/>
                  </a:solidFill>
                  <a:latin typeface="Arial"/>
                </a:rPr>
                <a:t>studen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89400" y="4524480"/>
              <a:ext cx="1197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261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226189"/>
                  </a:solidFill>
                  <a:latin typeface="Arial"/>
                </a:rPr>
                <a:t>paren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59280" y="0"/>
            <a:ext cx="6442920" cy="520560"/>
          </a:xfrm>
          <a:prstGeom prst="rect">
            <a:avLst/>
          </a:prstGeom>
          <a:solidFill>
            <a:srgbClr val="226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7f7f7"/>
                </a:solidFill>
                <a:latin typeface="Trebuchet MS"/>
              </a:rPr>
              <a:t>What is the Ultranet: functional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4920" y="20520"/>
            <a:ext cx="5112360" cy="520560"/>
          </a:xfrm>
          <a:prstGeom prst="rect">
            <a:avLst/>
          </a:prstGeom>
          <a:solidFill>
            <a:srgbClr val="226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7f7f7"/>
                </a:solidFill>
                <a:latin typeface="Trebuchet MS"/>
              </a:rPr>
              <a:t>What is the Ultranet: us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226189"/>
                </a:solidFill>
                <a:latin typeface="Trebuchet MS"/>
              </a:rPr>
              <a:t>Responsibilities of Ultranet Coaches</a:t>
            </a:r>
            <a:endParaRPr b="1" lang="en-US" sz="40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Focus on preparing schools for the Ultranet in the areas of: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-  Workplace Capability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-  Teaching and Learning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-  Leadership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-  Community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-  Data/Content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-  Infrastructure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Champion the Ultranet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Support Regions in their role to implement the Ultranet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Late 2008 - 2009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Training Ultranet Super Users (average of 3-4 super users in each school)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226189"/>
                </a:solidFill>
                <a:latin typeface="Trebuchet MS"/>
              </a:rPr>
              <a:t>Principal/teachers responsibilities - Ultranet</a:t>
            </a: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Principals to champion Ultranet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Performance goal around preparing their school for the Ultranet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Teacher performance goal ICT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AIP Ultranet Goal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Begin planning for Ultranet implementation in their school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Complete the ePotential ICT survey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226189"/>
                </a:solidFill>
                <a:latin typeface="Trebuchet MS"/>
              </a:rPr>
              <a:t>Collaborative approach</a:t>
            </a: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000" y="2781360"/>
            <a:ext cx="31669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e75d9"/>
                </a:solidFill>
                <a:latin typeface="Arial"/>
              </a:rPr>
              <a:t>Schools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Principals and associated leadership team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Teachers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35280" y="1483920"/>
            <a:ext cx="3313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e75d9"/>
                </a:solidFill>
                <a:latin typeface="Arial"/>
              </a:rPr>
              <a:t>Regional Office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Regional Team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Coaches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e75d9"/>
                </a:solidFill>
                <a:latin typeface="Arial"/>
              </a:rPr>
              <a:t>Central Office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ORI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OGSE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Ultranet team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066920" y="2492280"/>
            <a:ext cx="936360" cy="647640"/>
          </a:xfrm>
          <a:prstGeom prst="line">
            <a:avLst/>
          </a:prstGeom>
          <a:ln w="76320">
            <a:solidFill>
              <a:srgbClr val="ae004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4066920" y="4149360"/>
            <a:ext cx="936360" cy="431640"/>
          </a:xfrm>
          <a:prstGeom prst="line">
            <a:avLst/>
          </a:prstGeom>
          <a:ln w="76320">
            <a:solidFill>
              <a:srgbClr val="ae004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59640" y="2781360"/>
            <a:ext cx="0" cy="792000"/>
          </a:xfrm>
          <a:prstGeom prst="line">
            <a:avLst/>
          </a:prstGeom>
          <a:ln w="76320">
            <a:solidFill>
              <a:srgbClr val="ae004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67280" y="2924280"/>
            <a:ext cx="2305080" cy="1152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27640" y="306864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ranet Co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609480"/>
            <a:ext cx="874872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226189"/>
                </a:solidFill>
                <a:latin typeface="Trebuchet MS"/>
              </a:rPr>
              <a:t>Your Ultranet Coaches</a:t>
            </a:r>
            <a:br>
              <a:rPr sz="4000"/>
            </a:br>
            <a:br>
              <a:rPr sz="2400"/>
            </a:br>
            <a:r>
              <a:rPr b="1" lang="en-US" sz="3600" spc="-1" strike="noStrike">
                <a:solidFill>
                  <a:srgbClr val="2e75d9"/>
                </a:solidFill>
                <a:latin typeface="Trebuchet MS"/>
              </a:rPr>
              <a:t>Julian Growcott</a:t>
            </a:r>
            <a:br>
              <a:rPr sz="3600"/>
            </a:br>
            <a:r>
              <a:rPr b="1" lang="en-US" sz="3600" spc="-1" strike="noStrike">
                <a:solidFill>
                  <a:srgbClr val="2e75d9"/>
                </a:solidFill>
                <a:latin typeface="Trebuchet MS"/>
              </a:rPr>
              <a:t>Heather Carver</a:t>
            </a:r>
            <a:br>
              <a:rPr sz="3600"/>
            </a:br>
            <a:r>
              <a:rPr b="1" lang="en-US" sz="3600" spc="-1" strike="noStrike">
                <a:solidFill>
                  <a:srgbClr val="2e75d9"/>
                </a:solidFill>
                <a:latin typeface="Trebuchet MS"/>
              </a:rPr>
              <a:t> Jonathan Hall</a:t>
            </a:r>
            <a:r>
              <a:rPr b="1" lang="en-US" sz="2400" spc="-1" strike="noStrike">
                <a:solidFill>
                  <a:srgbClr val="2e75d9"/>
                </a:solidFill>
                <a:latin typeface="Trebuchet MS"/>
              </a:rPr>
              <a:t> </a:t>
            </a:r>
            <a:br>
              <a:rPr sz="2400"/>
            </a:br>
            <a:br>
              <a:rPr sz="2400"/>
            </a:br>
            <a:r>
              <a:rPr b="1" lang="en-AU" sz="2800" spc="-1" strike="noStrike">
                <a:solidFill>
                  <a:srgbClr val="2e75d9"/>
                </a:solidFill>
                <a:latin typeface="Trebuchet MS"/>
              </a:rPr>
              <a:t>2008 – Determine School Ultranet readiness</a:t>
            </a:r>
            <a:br>
              <a:rPr sz="3200"/>
            </a:br>
            <a:br>
              <a:rPr sz="1400"/>
            </a:br>
            <a:r>
              <a:rPr b="0" lang="en-AU" sz="2800" spc="-1" strike="noStrike">
                <a:solidFill>
                  <a:srgbClr val="2e75d9"/>
                </a:solidFill>
                <a:latin typeface="Trebuchet MS"/>
              </a:rPr>
              <a:t>Late 2008 - 2009</a:t>
            </a:r>
            <a:br>
              <a:rPr sz="2800"/>
            </a:br>
            <a:r>
              <a:rPr b="0" lang="en-AU" sz="2800" spc="-1" strike="noStrike">
                <a:solidFill>
                  <a:srgbClr val="2e75d9"/>
                </a:solidFill>
                <a:latin typeface="Trebuchet MS"/>
              </a:rPr>
              <a:t>Training Ultranet Super Users </a:t>
            </a:r>
            <a:br>
              <a:rPr sz="2800"/>
            </a:br>
            <a:r>
              <a:rPr b="0" lang="en-AU" sz="2800" spc="-1" strike="noStrike">
                <a:solidFill>
                  <a:srgbClr val="2e75d9"/>
                </a:solidFill>
                <a:latin typeface="Trebuchet MS"/>
              </a:rPr>
              <a:t>(average of 3-4 super users in each school)</a:t>
            </a:r>
            <a:br>
              <a:rPr sz="2400"/>
            </a:br>
            <a:br>
              <a:rPr sz="3200"/>
            </a:br>
            <a:endParaRPr b="1" lang="en-US" sz="2800" spc="-1" strike="noStrike">
              <a:solidFill>
                <a:srgbClr val="2e75d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4:15:41Z</dcterms:created>
  <dc:creator>megan pearce</dc:creator>
  <dc:description/>
  <dc:language>en-US</dc:language>
  <cp:lastModifiedBy>John McLoughlin</cp:lastModifiedBy>
  <dcterms:modified xsi:type="dcterms:W3CDTF">2008-02-20T01:08:24Z</dcterms:modified>
  <cp:revision>144</cp:revision>
  <dc:subject/>
  <dc:title>Title here Background colour may change</dc:title>
</cp:coreProperties>
</file>